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B372-A043-40FF-99DC-FAFE86920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D7F5-870D-4260-9964-1354D66BA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9229-34C5-44F0-9D72-480903519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E4BF-6920-4C38-8AB5-5BD37111B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5E452-E80C-461E-90D7-794953624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15BB-2A8F-470D-9200-FBB36E528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8205-B2E6-4235-B6B8-358259555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0F29-D552-4798-ADEE-4F41D4083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914400" y="4416120"/>
            <a:ext cx="50292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435E3-E8A4-40F5-9480-3DE279A92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854E-FC02-442D-AFFC-44DB18F92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0474-C812-41BE-8711-01793FF74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914400" y="4416120"/>
            <a:ext cx="50292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0B1B-5185-4FBA-834F-551F4169D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92BB-AE12-444A-BD4E-D417445A5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CD03-53E0-4D49-96C8-41F6FCCD9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8047-82E4-4278-8EF5-2C83809EB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0553-EBB9-4DC8-BD38-E9FC222AB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04840" y="696960"/>
            <a:ext cx="4648320" cy="3486240"/>
          </a:xfrm>
          <a:prstGeom prst="rect">
            <a:avLst/>
          </a:prstGeom>
          <a:ln w="0">
            <a:noFill/>
          </a:ln>
        </p:spPr>
      </p:sp>
      <p:sp>
        <p:nvSpPr>
          <p:cNvPr id="15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E9FE-AEBE-4FBA-9C4B-DB543294A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0079-CC6F-49D4-B017-1798EBD93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04840" y="696960"/>
            <a:ext cx="4648320" cy="3486240"/>
          </a:xfrm>
          <a:prstGeom prst="rect">
            <a:avLst/>
          </a:prstGeom>
          <a:ln w="0">
            <a:noFill/>
          </a:ln>
        </p:spPr>
      </p:sp>
      <p:sp>
        <p:nvSpPr>
          <p:cNvPr id="16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78FD-8EA0-4CBC-8262-0581E2AE0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66B4-6F3A-4E27-B3C7-1E52DB978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2FD28-1EA2-43F4-B648-2AC428F94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343F2-ACA0-494A-A071-3B0AE7B57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4C201-63E0-4702-A582-C3B14DF60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FEC43-9362-4978-B411-5ACB363DE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25519-B373-4F45-84B9-AE87C5226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18819-73D0-41CB-9772-F078A7F67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59C87-7597-4EC1-AA5B-972088598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B9458-AC7C-44BF-BECE-7FB6CF01C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9382A-8183-4208-B7AB-0A4C4F5A6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06173-5C5D-4880-963F-71A03DF7A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1FAD9-4E93-4E5B-A717-E352C4826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C708E-F10A-4BD5-AC18-EB6A781CA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6D86-3CEA-4C92-B3DF-3982061E82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Valued Customer</cp:lastModifiedBy>
  <dcterms:modified xsi:type="dcterms:W3CDTF">2010-02-09T17:58:57Z</dcterms:modified>
  <cp:revision>121</cp:revision>
  <dc:subject/>
  <dc:title>Wikispaces for Teachers A guide to using them in your classroom</dc:title>
</cp:coreProperties>
</file>