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0669-9EAD-4722-9406-19CC5855F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9C176-9B6C-4ACC-A410-F24DD249F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977E-E530-4A8D-92DD-DE58AC855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6D457-4E41-4540-BB21-99A35A8BF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5FD2-CBC1-4920-882B-859AAC5AC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97E7-2842-4CF2-B478-8AE998DDE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D85A-A4B2-4D83-91F9-74D2E5583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C087-A50B-4021-A21C-2F06BA6AE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914400" y="4416120"/>
            <a:ext cx="50292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8622-40D2-4509-BAA5-FECEE0867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5BBD-2CC8-46FA-90AD-C299EF08A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62D2-B395-4713-B294-93BA56CFA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914400" y="4416120"/>
            <a:ext cx="50292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C4A33-358B-416C-8012-5EECCE50F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6F26-17E1-4F82-818C-119E62F2E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DC16F-362A-4BE6-98EE-BE3D2F564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59F8-3693-4D68-900C-0EB353413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071C-8C01-4043-BF24-F3DE65A71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04840" y="696960"/>
            <a:ext cx="4648320" cy="3486240"/>
          </a:xfrm>
          <a:prstGeom prst="rect">
            <a:avLst/>
          </a:prstGeom>
          <a:ln w="0">
            <a:noFill/>
          </a:ln>
        </p:spPr>
      </p:sp>
      <p:sp>
        <p:nvSpPr>
          <p:cNvPr id="15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B560-DBE9-4599-B3D9-4DB487E11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F7E8-E4F1-4511-96E3-1A08FF606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04840" y="696960"/>
            <a:ext cx="4648320" cy="3486240"/>
          </a:xfrm>
          <a:prstGeom prst="rect">
            <a:avLst/>
          </a:prstGeom>
          <a:ln w="0">
            <a:noFill/>
          </a:ln>
        </p:spPr>
      </p:sp>
      <p:sp>
        <p:nvSpPr>
          <p:cNvPr id="16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C76B-43B8-4D4E-A26C-7546C5631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D0530-10D1-4BE3-8E67-4471036A79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F9446-74AD-4ED1-ADB7-65D620E89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DE1C6-0D6F-415A-AF41-4E8EA7CA7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BD28C-D7EE-49E1-B07B-48C494FAA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9AB02-0F30-47D9-8967-39F2B25A5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16552-3007-43E0-89A6-645219A76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4DA3F-9F62-45DD-AF99-6D341A3FB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8B071-5A04-4B7E-ADC1-3F480F882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C2776-8BCB-4726-8737-D4BEB0C1E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54F60-3BF2-40B2-A4E5-9CCAD57F1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78650-B2D0-4576-BCF0-3BF34D180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AA771-2709-4B66-8573-1A7C62874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E9EE9-330B-4424-985A-98A49F992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E255B-E08D-4410-A449-424A0367F6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Valued Customer</cp:lastModifiedBy>
  <dcterms:modified xsi:type="dcterms:W3CDTF">2010-02-09T17:58:57Z</dcterms:modified>
  <cp:revision>121</cp:revision>
  <dc:subject/>
  <dc:title>Wikispaces for Teachers A guide to using them in your classroom</dc:title>
</cp:coreProperties>
</file>