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21E9-56E6-4FB0-A350-72D5907C7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BB73-8353-4DB3-BE6E-0AD273319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37DC-4498-42E3-A6DF-3F320E987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2D5E-B558-408E-8DF4-E61AE2C6C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D9B2-6651-44DD-A8AE-9D033DAE7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D588-F42D-47CC-A675-07BEC0011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1714-1D1A-4D84-8A3F-544C4C4E7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13CC-CC1E-474D-93E5-6D8CDFF07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7A6D-39B5-470A-B9A2-B01117B62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5540-96DD-418E-A775-7815BA556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0C81-9A01-436D-8654-A0E6EE085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E336-6C25-4569-BD03-2E61A07E1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37C9-4AC6-487B-8967-FAC37CFE1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F7DD-11C9-40E7-926F-05D9785F3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2E03-9AE4-47C3-9B31-4E2FD95C9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7432-6049-4C83-B705-C8D272A19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3BF2-8E2A-4F8C-88BE-53AAB15B4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0468-4C5F-4648-9E50-775154245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6F7A-5063-48DB-8D47-06186EBCE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68AB-02A1-4E47-B8A6-B6D758829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76156-F0C8-473E-B578-796480C06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B699F-7950-4CB4-944E-3ACD5ED7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0FDF3-1189-46F0-B0CB-07D8D3BAF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0AAFF-00F1-49E0-A316-A22A5107C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68C6A-CB62-4A6A-BAD4-D66ADF99A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8A97-8EEA-4EC0-9714-5AD9870A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AAEBA-2074-411F-AC77-89DE48246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A7A5-78FC-49B6-81B0-4981C5F3E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3122-51EC-4FBD-BB6F-804027A9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372F-2C8D-4DAA-9555-3C26D90B9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DCA9D-6A7A-40FE-B2EB-BA95DCCD8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F357-55EF-46AF-8950-BD565B4A4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BA9A-9A53-4BF7-B166-9E5C4D1D0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Valued Customer</cp:lastModifiedBy>
  <dcterms:modified xsi:type="dcterms:W3CDTF">2010-02-09T17:58:57Z</dcterms:modified>
  <cp:revision>121</cp:revision>
  <dc:subject/>
  <dc:title>Wikispaces for Teachers A guide to using them in your classroom</dc:title>
</cp:coreProperties>
</file>