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8165-922B-4F6C-A2F2-BFBE1E481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A9E1-AD80-480D-A1CC-B81F7654D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6FD7-C09A-4BB3-ACF1-11304CFCD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7050-F9FE-4F15-8B5F-1095C63B1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BC9F-C96E-4111-B87E-DE0FF7994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124D-8DE5-4669-8BA1-97064EE7B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B660-D66C-4A40-AB04-274122CF5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FE8E-3452-47BC-8BD6-4EBE1A7FC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2308-6099-46CA-919D-358C3153A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9D6F-2C5D-4901-90E2-20528CB7D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37EF-FE30-4185-B392-1CFCCA321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836B-8BE7-4018-8A6A-4DEF15002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CC7C-CCE1-4DB9-8B13-1ABA6F2BB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E510-8554-4B7B-8C79-60622678A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9627-B962-4825-8CFC-F8F272040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DE23-70DB-4331-857A-F4D500859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A759-D07E-40D0-AEF8-67D566AA8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C937-CC10-42C7-B5AF-03E353C9C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F466-FD20-4FA0-9FD3-7A9C3D695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144A-AEE3-43C8-8345-A9F9ED9D9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E8AB9-D67D-4F6E-8EFE-03DEF7A05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2E88C-4038-477D-A537-F2D6E7C06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0D03E-D3BC-4BCD-8959-33BB426F6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340C5-397B-4F37-BD4D-627301232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905FF-B94F-4FC1-9FCB-A32381E81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BAB9C-1958-4726-A89E-C09D28AF3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ABFEA-E5A8-4C95-AC1E-434F35445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7607A-7CC1-4F46-962F-B00EE8B67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8B12A-0C96-4AD6-87C0-F8E92487E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4F5D8-5405-41EC-BE7D-F86CC1916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33D63-70CC-44D1-AE1C-DFED260FF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79453-DCA3-4857-8132-6D4C95DB2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C9B2-8B8F-4182-89AF-C1D63A3A80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Valued Customer</cp:lastModifiedBy>
  <dcterms:modified xsi:type="dcterms:W3CDTF">2010-02-09T17:58:57Z</dcterms:modified>
  <cp:revision>121</cp:revision>
  <dc:subject/>
  <dc:title>Wikispaces for Teachers A guide to using them in your classroom</dc:title>
</cp:coreProperties>
</file>